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DED-0BD8-4AF5-B20D-BD909AC1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40A-C8BC-4E0C-88E8-A422D697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5B3-5256-43CF-AB00-FC144F14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D33-18BE-430F-9785-F4478E13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86B-7D41-432B-960A-1FF09BD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967-50DB-44C3-86FE-7B4E4E6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465-313C-4495-847A-4390708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50C-A91A-44A8-B6A5-3506C3FF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F9F-AC26-4015-AEAD-11159B4E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FF6-DA83-456E-9ED4-55428B9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7EC-1289-4D2F-96FC-8B7288A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2F7-DC1E-42B2-BD8D-3C08CE7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B531-6ADF-4810-8C86-FDC4C875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 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Birth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school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an’s name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an’s occupation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ite movie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ck of this card, write something else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1:59:22Z</dcterms:created>
  <dc:creator> </dc:creator>
  <dc:description/>
  <dc:language>en-US</dc:language>
  <cp:lastModifiedBy> </cp:lastModifiedBy>
  <dcterms:modified xsi:type="dcterms:W3CDTF">2008-08-09T02:47:15Z</dcterms:modified>
  <cp:revision>2</cp:revision>
  <dc:subject/>
  <dc:title>ABOUT ME</dc:title>
</cp:coreProperties>
</file>